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FAA-DEC2-4E62-B746-7676E65E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6B5-D3FD-475A-B634-5CD5A44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3AC-3EDF-497B-AE4C-11EDAD8F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4A5-ABC0-407F-87FD-24EF0756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967-4EC8-4672-8B38-49A82247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8FA-CA99-41A2-BC37-253D779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FF83-94A6-4028-9F9F-B2AF9753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6EA-1A07-4B23-80AD-7298BAE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37E4-8803-41BE-A6F0-A7F656A4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FBD-180E-47FC-B9D8-5FB322D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809A-1CD2-4711-B16C-556787F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CD3-14C1-416A-B830-2A40851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5AB3-2F41-4698-8F0A-50EB289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0C8-B880-430B-843A-5DE52F9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666-D95A-4BEA-A844-4736CA9A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8E2-68B7-401C-8CD1-C6D75523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99F-E2E0-4554-A9B0-48D277DD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05F-4E2E-47D0-B45B-9DCE8CB9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C53-98B0-4142-B324-DC5CB45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F8F-E0A5-4022-80B4-2718F3C6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2A4-FB86-4C84-A6F6-36D503B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109-AF28-4926-B78E-ADDB51C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E86-D161-4211-A933-F888565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B8E-008A-418E-A203-551355A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DAF2-A666-4DDA-9815-FEA5CEB5B14D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13D-56D7-4A4C-8357-E9CD5C871266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68263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mbiente de tempo de Execução</a:t>
            </a:r>
            <a:br>
              <a:rPr sz="4600"/>
            </a:b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ugestão de leitura: Capítulo 7 do livro do Dragão (até 7.3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280" y="1961640"/>
            <a:ext cx="7954920" cy="43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de ser controlado sinalizando o momento em que se entra e sai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ursivo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iciam uma ativação antes que uma anterior tenha sido encer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ão ativações de procedimentos, então seus tempos de vida ou são não sobrepostos ou são aninhados. Isto é, s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iciada antes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r deixada, o controle deve abandon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tes de deix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2143080"/>
            <a:ext cx="7954920" cy="403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árvore de ativa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nó é uma ativaçã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raiz é a ativação do programa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é o pai d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e e somente se o controle fluir da ativação de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stá a esquerda d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e e somente se 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correr antes d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vores de ativação - Ex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68280"/>
          <a:ext cx="71276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127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FS da 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fluxo de controle em um programa corresponde a uma travessia em profundidade (depth-first search DFS) da árvore de ativaçõ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FS: começa à raiz, visita um nodo antes de seus filhos, e recursivamente visita os filhos a cada nodo numa ordem da esquerda para a direi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99160" y="1557360"/>
          <a:ext cx="31878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1557360"/>
                    <a:ext cx="31878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lha de Contr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, o nodo é empilhado para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ando esta iniciar, e é desempilhado quando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rmin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conteúdo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 está relacionado a percursos até a raiz da árvore de ativaçõ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copo de uma declar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955280" cy="43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scopo de uma decla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arte do programa ao qual uma declaração se aplica chama-se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co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gras de escopo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terminam a declaração de n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ocorre dentr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lobal ou não-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que ocorre fora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marração de no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80200" cy="48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objeto de dado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responde a uma localização de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mbiente mapeia o nome ao objeto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ado mapeia o objeto de dado ao valor armaze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ribuições modificam o estado, mas não 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marrad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bjeto de dad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ando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xiste uma associação entr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 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são recursiv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que acontece aos valores dos nomes locais quando o controle retorna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procedimento pode se referir a nomes não-locai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o são transmitidos os parâmetros quando um procedimento é chama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transmitidos como parâmetr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retornados como resultad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de ser reservada dinamicamente sob controle do program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ecisa ser liberada explicitam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m de preparar a geração de código, deve-se relacionar o fonte estático do programa às ações em temp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nte a execução, o mesmo nome no código fonte pode estar associado a diferentes objetos de dado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aneira como um compilador organiza a memória para amarrar nomes determ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orte a procedimentos recur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e do tempo de vida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ras de referência a nomes não-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arâmetros em chamada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rocedimento como parâme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ocação dinamica da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geral, um programa compilado obtém um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bloco de 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 sistema operacional para ser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e bloco de memória costuma ser dividido 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o código alvo g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e objetos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ha de controle para ativação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o código alvo é estático e estabeleci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e alguns objetos de dados também é estático, determina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controle das chamadas de procedimentos é controlada por um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pil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tras informações dinâmicas são alocadas em uma área livre denominad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heap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e cresce para 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36512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8273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30040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9117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778120"/>
            <a:ext cx="2819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27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89560" y="361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064360" cy="12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de controle gerencia ativações de procediment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r convenção, 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cresce para baixo (em direção aos endereços maiores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corre uma chamada,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terrompida e as informações sobre o estado da máquina, tais como o valor do apontador da próxima instrução e dos registradores de máquina são salvas 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nformações necessárias em uma únic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 são gerenciadas utilizando-se um único bloco contíguo de armazenamento chamado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Valor retornad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retornado pela fun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Parâmetros atua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dos parâmetros a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controle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aponta para o registro de ativação do procedimento que o cha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acesso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para acessar dados de outros registros de ativ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95492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tado da máquin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dição da máquina antes de executar o procedimento, para o qual deve retor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Dados loc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variáveis locais a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emporári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resultados de express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Layout dos Dados Locais em Tempo de Compilaçã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643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ipo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termina a quantidade d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e deve ser reservada a um 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isposição de memória para objetos de dados é influenciada pelas restrições de endereçamento da máquina-al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r isto, é desejável que as instruções que operem sobre dados do mesmo tipo estejam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linhada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 garantir o alinhamento, pode ser necessário inserir espaços sem uso chamados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enchimento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projeto de compilador deve incluir estratégias de alocação de memória em cada uma das áreas de d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estática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não precisa de suporte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de pilh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exige suporte para empilhar/desempilhar registros de at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heap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suporte para alocação contígua e liberação aleatória de memória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tratégias de alocação de memó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alocação e liberação de objetos de dados é gerenciado pelo ambiente de tempo de execução (runtime environ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um procedimento é referenciada como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 caso de chamadas recursivas, várias ativações de um mesmo procedimento estão “vivas” em determinado instante.  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presentação de um objeto de dados em tempo de execução é determinado pelo seu t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üentemente, tipos de dados elementares, tal como caracteres, inteiros e real, podem ser representados por objetos de dados equivalente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guagem Fon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rocedimentos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definição de procedimento é uma declaração que associa um identificador a um enunc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id listaNomes(int tamLis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280" y="1890360"/>
            <a:ext cx="795492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possu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siste na declaração do procedimento formando por 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rp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é o enunciado d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form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os identificadores que aparecem na definição de um procedimento (argume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atu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passados ao procedimento durante uma cham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8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unçõ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ão procedimentos que retornam val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é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hamad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quando seu nome aparece dentro de um enunciado executá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sim que o procedimento é chamado, seu corpo é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fluxo de controle sequencial dos procedimentos pode ser exibido na forma de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árvores de 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sições sobre o fluxo de controle entre procediment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controle flui seqüencialmente; isto é,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grama consiste em uma seqüência de passos, com o controle, a cada passo, em algum ponto específico do program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cedimento começa ao início do corpo do procedimento e eventualmente retorna o controle para o ponto imediatamente seguinte ao local de onde foi cham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54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é a execução do corpo de um procedimento que possui um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tempo de vi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tempo de vida de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a seqüência de passos entre o primeiro e o último passos n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o corpo do procedimento, incluindo o tempo utilizado para 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procedimentos chamad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2:49:25Z</dcterms:created>
  <dc:creator>Marcelo Silva Cintra</dc:creator>
  <dc:description/>
  <dc:language>en-US</dc:language>
  <cp:lastModifiedBy>Marcelo Silva Cintra</cp:lastModifiedBy>
  <dcterms:modified xsi:type="dcterms:W3CDTF">2006-11-23T15:29:45Z</dcterms:modified>
  <cp:revision>51</cp:revision>
  <dc:subject/>
  <dc:title>Ambiente de tempo de Execução</dc:title>
</cp:coreProperties>
</file>